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2-</a:t>
            </a:r>
            <a:fld id="{6DDC0E94-5CC5-481F-A521-1043DC813931}"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2</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Desegreg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33520"/>
            <a:ext cx="8220240" cy="122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Swann v. Charlotte-Mecklenburg Board of Education</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9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Swann</a:t>
            </a:r>
            <a:r>
              <a:rPr b="0" lang="en-US" sz="2800" spc="-1" strike="noStrike">
                <a:solidFill>
                  <a:srgbClr val="000000"/>
                </a:solidFill>
                <a:latin typeface="Tahoma"/>
              </a:rPr>
              <a:t> was a leading case in defining the scope of the duty to eliminate de jure segregation and a dual school syste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objective in </a:t>
            </a:r>
            <a:r>
              <a:rPr b="0" i="1" lang="en-US" sz="2800" spc="-1" strike="noStrike">
                <a:solidFill>
                  <a:srgbClr val="000000"/>
                </a:solidFill>
                <a:latin typeface="Tahoma"/>
              </a:rPr>
              <a:t>Swann</a:t>
            </a:r>
            <a:r>
              <a:rPr b="0" lang="en-US" sz="2800" spc="-1" strike="noStrike">
                <a:solidFill>
                  <a:srgbClr val="000000"/>
                </a:solidFill>
                <a:latin typeface="Tahoma"/>
              </a:rPr>
              <a:t> was to ensure that school authorities excluded no student of a racial minority from any school directly or indirectly based on rac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762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e of mathematical ratios was only a beginning point in the process of shaping a remedy for eradicating segregated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optional majority to minority transfer provision is implemented, transferring students must be granted free transportation. </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ing and grouping on noncontiguous school zones is a permissible tool and should be considered in light of the objectives sought by the school district. </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bjection to transportation of students may be valid when the time and distance of travel is so great as to either risk the health of children or significantly impinge on the educational proces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sing and Desegregation</a:t>
            </a:r>
            <a:endParaRPr b="0" lang="en-US" sz="3600" spc="-1" strike="noStrike">
              <a:solidFill>
                <a:srgbClr val="333399"/>
              </a:solidFill>
              <a:latin typeface="Tahoma"/>
            </a:endParaRPr>
          </a:p>
        </p:txBody>
      </p:sp>
      <p:sp>
        <p:nvSpPr>
          <p:cNvPr id="103"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rically, the courts have viewed busing as an effective means of achieving desegregated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met opposition by parents and taxpayers who considered busing to be a threat to the neighborhood school concept, time-consuming for students, and an added expense on taxpayers.</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s and taxpayers advocated that money be expended on improving neighborhood schools rather on bus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states passed anti-busing legislation to prohibit the use of busing.</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umber of district courts concluded that allowing students to attend schools near where they lived would not effective dismantle dual school system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g is considered one viable measure used by the courts to achieve desegregated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53352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De Facto Segrega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7"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Facto segregation is present when a substantial number of students enrolled in a school represent a racial and ethnic minori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ituation developed through no action taken by the school district. </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urts did, however, mandate that corrective action be taken in instances where school officials gerrymandered (altered) school attendance zones to create zones with large concentrations of black students assigned to historically black schools within the distric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ct courts may alter attendance zones and may devise zones based on grouping and pairing schools and may require busing to achieve desegregation.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ct courts may disallow patterns of school construction and abandonment that create a dual system of educa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jure segreg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jure segregation is segregation that is sanctioned by law as was the case in </a:t>
            </a:r>
            <a:r>
              <a:rPr b="0" i="1" lang="en-US" sz="2800" spc="-1" strike="noStrike">
                <a:solidFill>
                  <a:srgbClr val="000000"/>
                </a:solidFill>
                <a:latin typeface="Tahoma"/>
              </a:rPr>
              <a:t>Brown 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use the equal protection clause essentially covers state action, it prohibits state endorsed discrimination.</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s devised that result in substantially segregated schools are illega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on the part of the school board that is designed to create and maintain segregated schools clearly violates the Fourteenth Amendment and the </a:t>
            </a:r>
            <a:r>
              <a:rPr b="0" i="1" lang="en-US" sz="2800" spc="-1" strike="noStrike">
                <a:solidFill>
                  <a:srgbClr val="000000"/>
                </a:solidFill>
                <a:latin typeface="Tahoma"/>
              </a:rPr>
              <a:t>Brown</a:t>
            </a:r>
            <a:r>
              <a:rPr b="0" lang="en-US" sz="2800" spc="-1" strike="noStrike">
                <a:solidFill>
                  <a:srgbClr val="000000"/>
                </a:solidFill>
                <a:latin typeface="Tahoma"/>
              </a:rPr>
              <a:t> holding.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eking Unitary Status</a:t>
            </a:r>
            <a:endParaRPr b="0" lang="en-US" sz="3600" spc="-1" strike="noStrike">
              <a:solidFill>
                <a:srgbClr val="333399"/>
              </a:solidFill>
              <a:latin typeface="Tahoma"/>
            </a:endParaRPr>
          </a:p>
        </p:txBody>
      </p:sp>
      <p:sp>
        <p:nvSpPr>
          <p:cNvPr id="112"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districts across the nation have filed for unitary statu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essentially made the claim that they have operated in good faith and made a concerted effort to achieve desegregated school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these efforts, they are requesting that they be relieved of court supervision. </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good faith incremental approach to achieving unitary status is acceptable by the courts and considered to be constitutiona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hieving unitary status in some areas may lead to relinquished judicial control, even when some other areas have not achieved unitary status. </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ugh relinquishing control in areas deemed to be unitary, a school district may effectively focus on the areas in need of further attentio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80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Brown v. Board of Educa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89" name="PlaceHolder 2"/>
          <p:cNvSpPr>
            <a:spLocks noGrp="1"/>
          </p:cNvSpPr>
          <p:nvPr>
            <p:ph/>
          </p:nvPr>
        </p:nvSpPr>
        <p:spPr>
          <a:xfrm>
            <a:off x="641160" y="17524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 separate cases from Kansas, South Carolina, Virginia, and Delaware were consolidated and decided in </a:t>
            </a:r>
            <a:r>
              <a:rPr b="0" i="1" lang="en-US" sz="2800" spc="-1" strike="noStrike">
                <a:solidFill>
                  <a:srgbClr val="000000"/>
                </a:solidFill>
                <a:latin typeface="Tahoma"/>
              </a:rPr>
              <a:t>Brow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each case, black students sought admission to segregated schools in their communities. </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states, South Carolina, Virginia, and Delaware had statutes that called for segregated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nsas permitted but did not require segregated schools. The four states relied on the separate but equal decision in </a:t>
            </a:r>
            <a:r>
              <a:rPr b="0" i="1" lang="en-US" sz="2800" spc="-1" strike="noStrike">
                <a:solidFill>
                  <a:srgbClr val="000000"/>
                </a:solidFill>
                <a:latin typeface="Tahoma"/>
              </a:rPr>
              <a:t>Plessy v. Ferguson</a:t>
            </a:r>
            <a:r>
              <a:rPr b="0" lang="en-US" sz="2800" spc="-1" strike="noStrike">
                <a:solidFill>
                  <a:srgbClr val="000000"/>
                </a:solidFill>
                <a:latin typeface="Tahoma"/>
              </a:rPr>
              <a:t> to defend their position.</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Supreme Court disagreed and held for the studen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cannot be discriminated against in their attempts to attend school on the basis of rac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urteenth Amendment guarantees equal protection under the law for students attending public school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regation sanctioned by a state deprives minority children equal educational opportunitie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parate but equal schools based on race are inherently unequal and unconstitutional.</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Brown v. Board of Education (Brown II)</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9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Brown II’s</a:t>
            </a:r>
            <a:r>
              <a:rPr b="0" lang="en-US" sz="2800" spc="-1" strike="noStrike">
                <a:solidFill>
                  <a:srgbClr val="000000"/>
                </a:solidFill>
                <a:latin typeface="Tahoma"/>
              </a:rPr>
              <a:t> ruling was fashioned to ensure proper implementation of </a:t>
            </a:r>
            <a:r>
              <a:rPr b="0" i="1" lang="en-US" sz="2800" spc="-1" strike="noStrike">
                <a:solidFill>
                  <a:srgbClr val="000000"/>
                </a:solidFill>
                <a:latin typeface="Tahoma"/>
              </a:rPr>
              <a:t>Brown 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ases were remanded to federal district courts based on their proximity to local school districts. </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ruling mandated that school authorities be delegated the authority to implement its ruling in good faith and with all deliberate speed.</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uling in </a:t>
            </a:r>
            <a:r>
              <a:rPr b="0" i="1" lang="en-US" sz="2800" spc="-1" strike="noStrike">
                <a:solidFill>
                  <a:srgbClr val="000000"/>
                </a:solidFill>
                <a:latin typeface="Tahoma"/>
              </a:rPr>
              <a:t>Brown II </a:t>
            </a:r>
            <a:r>
              <a:rPr b="0" lang="en-US" sz="2800" spc="-1" strike="noStrike">
                <a:solidFill>
                  <a:srgbClr val="000000"/>
                </a:solidFill>
                <a:latin typeface="Tahoma"/>
              </a:rPr>
              <a:t>was handed down as a means of expediting the ruling in </a:t>
            </a:r>
            <a:r>
              <a:rPr b="0" i="1" lang="en-US" sz="2800" spc="-1" strike="noStrike">
                <a:solidFill>
                  <a:srgbClr val="000000"/>
                </a:solidFill>
                <a:latin typeface="Tahoma"/>
              </a:rPr>
              <a:t>Brown 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Brown II</a:t>
            </a:r>
            <a:r>
              <a:rPr b="0" lang="en-US" sz="2800" spc="-1" strike="noStrike">
                <a:solidFill>
                  <a:srgbClr val="000000"/>
                </a:solidFill>
                <a:latin typeface="Tahoma"/>
              </a:rPr>
              <a:t> remanded desegregation cases to federal district courts because of their close proximity to local school districts. </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14:53Z</dcterms:created>
  <dc:creator>cbrown</dc:creator>
  <dc:description/>
  <dc:language>en-US</dc:language>
  <cp:lastModifiedBy>T61Image</cp:lastModifiedBy>
  <dcterms:modified xsi:type="dcterms:W3CDTF">2013-09-16T22:57:14Z</dcterms:modified>
  <cp:revision>53</cp:revision>
  <dc:subject/>
  <dc:title>Terms and Conditions of Employment</dc:title>
</cp:coreProperties>
</file>